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DF3-8256-47A8-9E57-B92A65FED1D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8AB-D98C-410D-85B4-12221CB3361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について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にもっと『易しさ』と『優しさ』を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2005.10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株式会社 ナスピ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高橋 邦彦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k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本日の発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S2Container.PHP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それをコアにした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を使った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アプリケーション開発につい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S UI Gothic"/>
              <a:buChar char="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klov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さんより発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を使った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アプリケーション開発を支援するフレームワーク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ご紹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S UI Gothic"/>
              <a:buChar char="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高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(kunit)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より発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今後ともよろしくお願いします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8020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5400" spc="-1" strike="noStrike">
                <a:solidFill>
                  <a:srgbClr val="000000"/>
                </a:solidFill>
                <a:latin typeface="Verdana"/>
                <a:ea typeface="MS UI Gothic"/>
              </a:rPr>
              <a:t>はまだ走り始めたばかりで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Verdana"/>
                <a:ea typeface="MS UI Gothic"/>
              </a:rPr>
              <a:t>皆さんの参加をお待ちしておりま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ML: seasar-php@lists.sourceforge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802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高橋 邦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株式会社ナスピア 所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（会場の斜め前のビルだったりしま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ブログ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http://d.hatena.ne.jp/kuni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大阪に住んでます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が最近東京でよくみかけるといわれます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を使った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  <a:ea typeface="MS UI Gothic"/>
              </a:rPr>
              <a:t>アプリケーション開発を行ってい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現状：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219320"/>
            <a:ext cx="8020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2001/6/23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、それまで別に配布されていたマルチバイト対応のコードがマージされた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.0.6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がリリースされ、日本での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使用が拡大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最新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Ve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4.4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2004/7/13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OO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向けの機能強化等が行われた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.0.0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がリリース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最新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Ve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5.0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しかし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が同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pach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上で同時に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pach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モジュールとして動作しない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よりも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方が速度が落ちている等の理由により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を捨てて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に移行するということがなかなか進んでい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現状：ユーザ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3040" y="1066680"/>
            <a:ext cx="779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HTML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にそのまま埋め込めるという手軽さがうけてユーザを獲得していった言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ユーザ層は幅広く、ニーズもデザイナがサイトの一部を動的にしたいというものから、大規模サイトの構築に使用するというものまでとかなり幅広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開発者はようやくテンプレートエンジンや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EAR(※)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ライブラリを使用するということに慣れ始めている段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「クラスを使用すると遅くなる」という話が流れていて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OO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いうのを敬遠する開発者も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※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PEAR = PHP Extension and Application Reposi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現状：フレームワークと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791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年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Mojavi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いうフレームワークが雑誌で紹介され、フレームワークを使った開発に注目が集ま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guesswork/Ethna/Mapl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いった国産フレームワークが相次いでリリースされ、ためしに使ってみようというユーザが増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パフォーマンスの改善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DO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いう標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アクセスライブラリの添付といったことが行われた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5.1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がリリース間近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現在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5.1.0 RC1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が配布されてい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現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6720" y="1295280"/>
            <a:ext cx="8020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年から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2006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年は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Verdana"/>
                <a:ea typeface="MS UI Gothic"/>
              </a:rPr>
              <a:t>開発手法の見直しと</a:t>
            </a:r>
            <a:r>
              <a:rPr b="0" lang="ja-JP" sz="5400" spc="-1" strike="noStrike">
                <a:solidFill>
                  <a:srgbClr val="000000"/>
                </a:solidFill>
                <a:latin typeface="Verdana"/>
                <a:ea typeface="MS UI Gothic"/>
              </a:rPr>
              <a:t>PHP4⇒PHP5</a:t>
            </a:r>
            <a:r>
              <a:rPr b="0" lang="ja-JP" sz="5400" spc="-1" strike="noStrike">
                <a:solidFill>
                  <a:srgbClr val="000000"/>
                </a:solidFill>
                <a:latin typeface="Verdana"/>
                <a:ea typeface="MS UI Gothic"/>
              </a:rPr>
              <a:t>への移行がはじまる（かも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そこ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3040" y="1371600"/>
            <a:ext cx="8020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8800" spc="-1" strike="noStrike">
                <a:solidFill>
                  <a:srgbClr val="000000"/>
                </a:solidFill>
                <a:latin typeface="Verdana"/>
                <a:ea typeface="MS UI Gothic"/>
              </a:rPr>
              <a:t>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Verdana"/>
                <a:ea typeface="MS UI Gothic"/>
              </a:rPr>
              <a:t>いろい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Verdana"/>
                <a:ea typeface="MS UI Gothic"/>
              </a:rPr>
              <a:t>バックアップします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プロダ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219320"/>
            <a:ext cx="7791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には以下のプロダクトがありま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S2Container.PH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移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開発リーダ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klov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S2Dao.PH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S2Dao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PHP5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移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開発リーダ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nowel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アプリケーションフレームワーク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PHP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開発リーダ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k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295280"/>
            <a:ext cx="779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では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を使った開発をより効率的に行える環境作りをめざしてい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で自作したものを発表する場を広げていきま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unit</dc:creator>
  <dc:description/>
  <dc:language>en-US</dc:language>
  <cp:lastModifiedBy>TAKAHASHI Kunihiko</cp:lastModifiedBy>
  <dcterms:modified xsi:type="dcterms:W3CDTF">2005-10-20T14:53:28Z</dcterms:modified>
  <cp:revision>728</cp:revision>
  <dc:subject/>
  <dc:title>Seasar.PHPについて ～PHPにもっと『易しさ』と『優しさ』を～</dc:title>
</cp:coreProperties>
</file>