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D203-8ADE-4CB1-82C7-20F3BA0A90E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258-3A6E-408A-A478-2D43015B0B0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でも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DIxAOP</a:t>
            </a:r>
            <a:r>
              <a:rPr b="0" lang="ja-JP" sz="4400" spc="-1" strike="noStrike">
                <a:solidFill>
                  <a:srgbClr val="000000"/>
                </a:solidFill>
                <a:latin typeface="Verdana"/>
                <a:ea typeface="MS UI Gothic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0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の紹介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2005.10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Seasar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株式会社 ナスピ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高橋 邦彦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k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tiveRecord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048120"/>
            <a:ext cx="7467480" cy="327636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[dbSession:maple.activerecord.DBSess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dsn = "sqlite:///tes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[txInterceptor:maple.interceptor.DBTxIntercep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dbSession = ref:db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[ActiveRecordInterceptor:maple.interceptor.activeRecordIntercep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dbSession = ref:db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[member:pandn.example3.model.memb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/.*/ = advice:txInterceptor, advice:ActiveRecordInterce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[memberLogic: pandn.example3.logic.memberLogi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member = ref: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666880"/>
            <a:ext cx="114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icon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1430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1. dbSess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生成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(DB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接続の設定を行う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2. 2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つの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Interceptor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生成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(1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つはトランザクション管理、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つは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CRUD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行う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し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それぞれに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dbSess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3. Member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生成し、全てのメソッドに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つの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Interceptor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適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4. MemberLogic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に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で生成した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Member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Inject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して操作すれば、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DB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操作が可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今後ともよろしくお願いし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「</a:t>
            </a: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」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まだまだ発展途上で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ご意見をいただければ取り入れ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よりよいものにしていこうと思い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(http://kunit.jp/maple/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※</a:t>
            </a: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近日中に</a:t>
            </a: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Seasar</a:t>
            </a: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のサーバに移行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Verdana"/>
                <a:ea typeface="MS UI Gothic"/>
              </a:rPr>
              <a:t>ご静聴ありがとうございまし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  <a:ea typeface="MS UI Gothic"/>
              </a:rPr>
              <a:t>毎回毎回、「同じようなこと」をしていると感じませんか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  <a:ea typeface="MS UI Gothic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  <a:ea typeface="MS UI Gothic"/>
              </a:rPr>
              <a:t>「同じようなこと」を「同じこと」と「違うこと」にわけて、「同じこと」は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  <a:ea typeface="MS UI Gothic"/>
              </a:rPr>
              <a:t>にさせてしまいましょう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Mapl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Web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アプリケーションフレームワーク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PHP 4.2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以上で動作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PHP5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でも動作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リクエストは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つの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で全てうける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Front Controll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パターン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いつも行う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退屈な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ことは設定を行えばフレームワークが行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S UI Gothic"/>
              <a:buChar char="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入力変換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Convert)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や入力チェック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Validate)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何でもフィルタ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Intercepting Filt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パターン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を中心とした設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動作フロ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371600"/>
            <a:ext cx="2971800" cy="4800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066680"/>
            <a:ext cx="29718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43828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Request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解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20040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決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96252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設定ファイル解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72428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FilterChai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構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48640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FilterChain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実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4" idx="0"/>
          </p:cNvCxnSpPr>
          <p:nvPr/>
        </p:nvCxnSpPr>
        <p:spPr>
          <a:xfrm flipV="1" rot="10800000">
            <a:off x="2628360" y="290808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4" idx="2"/>
            <a:endCxn id="95" idx="0"/>
          </p:cNvCxnSpPr>
          <p:nvPr/>
        </p:nvCxnSpPr>
        <p:spPr>
          <a:xfrm flipV="1" rot="10800000">
            <a:off x="2628360" y="366984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 flipV="1" rot="10800000">
            <a:off x="2628360" y="443196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6" idx="2"/>
            <a:endCxn id="97" idx="0"/>
          </p:cNvCxnSpPr>
          <p:nvPr/>
        </p:nvCxnSpPr>
        <p:spPr>
          <a:xfrm flipV="1" rot="10800000">
            <a:off x="2628360" y="519408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876920" y="2590920"/>
            <a:ext cx="1676160" cy="3581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590920"/>
            <a:ext cx="167616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Filter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200400"/>
            <a:ext cx="122868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3962520"/>
            <a:ext cx="122868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724280"/>
            <a:ext cx="122868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Va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122868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7" idx="3"/>
            <a:endCxn id="107" idx="1"/>
          </p:cNvCxnSpPr>
          <p:nvPr/>
        </p:nvCxnSpPr>
        <p:spPr>
          <a:xfrm>
            <a:off x="3822480" y="5714640"/>
            <a:ext cx="12704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409720" y="520344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>
            <a:off x="5409720" y="444456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 rot="10800000">
            <a:off x="6019200" y="367632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 rot="10800000">
            <a:off x="6019200" y="444456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V="1" rot="10800000">
            <a:off x="6019200" y="520668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V="1">
            <a:off x="5409720" y="368280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7238880" y="3048120"/>
            <a:ext cx="1295640" cy="137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800600"/>
            <a:ext cx="1295640" cy="137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1295280"/>
            <a:ext cx="1295640" cy="137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設定ファイ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5" idx="1"/>
          </p:cNvCxnSpPr>
          <p:nvPr/>
        </p:nvCxnSpPr>
        <p:spPr>
          <a:xfrm>
            <a:off x="6346440" y="3428640"/>
            <a:ext cx="880200" cy="305640"/>
          </a:xfrm>
          <a:prstGeom prst="bentConnector3">
            <a:avLst>
              <a:gd name="adj1" fmla="val 50000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5" idx="3"/>
            <a:endCxn id="116" idx="1"/>
          </p:cNvCxnSpPr>
          <p:nvPr/>
        </p:nvCxnSpPr>
        <p:spPr>
          <a:xfrm>
            <a:off x="6346440" y="4191120"/>
            <a:ext cx="880200" cy="1296000"/>
          </a:xfrm>
          <a:prstGeom prst="bentConnector3">
            <a:avLst>
              <a:gd name="adj1" fmla="val 50000"/>
            </a:avLst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20" name=""/>
          <p:cNvCxnSpPr>
            <a:stCxn id="95" idx="3"/>
            <a:endCxn id="117" idx="1"/>
          </p:cNvCxnSpPr>
          <p:nvPr/>
        </p:nvCxnSpPr>
        <p:spPr>
          <a:xfrm flipV="1">
            <a:off x="3822840" y="1980360"/>
            <a:ext cx="3404160" cy="2210760"/>
          </a:xfrm>
          <a:prstGeom prst="bentConnector3">
            <a:avLst>
              <a:gd name="adj1" fmla="val 19587"/>
            </a:avLst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>
            <a:off x="456840" y="1904760"/>
            <a:ext cx="96588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456840" y="5743080"/>
            <a:ext cx="96588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</a:ln>
        </p:spPr>
      </p:cxnSp>
      <p:cxnSp>
        <p:nvCxnSpPr>
          <p:cNvPr id="123" name=""/>
          <p:cNvCxnSpPr>
            <a:stCxn id="107" idx="2"/>
            <a:endCxn id="97" idx="2"/>
          </p:cNvCxnSpPr>
          <p:nvPr/>
        </p:nvCxnSpPr>
        <p:spPr>
          <a:xfrm rot="5400000">
            <a:off x="4172760" y="4411440"/>
            <a:ext cx="2520" cy="3091320"/>
          </a:xfrm>
          <a:prstGeom prst="bentConnector3">
            <a:avLst>
              <a:gd name="adj1" fmla="val 27883333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1447920" y="1676520"/>
            <a:ext cx="23619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DIContainer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  <a:ea typeface="MS UI Gothic"/>
              </a:rPr>
              <a:t>初期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  <a:endCxn id="93" idx="0"/>
          </p:cNvCxnSpPr>
          <p:nvPr/>
        </p:nvCxnSpPr>
        <p:spPr>
          <a:xfrm flipV="1" rot="10800000">
            <a:off x="2628360" y="2145960"/>
            <a:ext cx="1080" cy="280080"/>
          </a:xfrm>
          <a:prstGeom prst="bentConnector2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の決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193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を決めるとディレクトリ名、ファイル名、クラス名が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  ◆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index.php?action=example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の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ディレクトリ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/webapp/modules/example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ファイル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Example.class.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は階層化が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  ◆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index.php?action=member_about_f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ディレクトリ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/webapp/modules/member/about/faq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ファイル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Member_About_Faq.class.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名 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  <a:ea typeface="MS UI Gothic"/>
              </a:rPr>
              <a:t>Member_About_Fa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⇒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共通のルールで作ることにより共同作業を行いやすく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最小のアプリ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241720"/>
            <a:ext cx="3276720" cy="415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class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var $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execut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return ‘success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etName($nam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name = $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getNam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return $this-&gt;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5486400"/>
            <a:ext cx="426708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{action-&gt;getName}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さん、こんにちは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&lt;/body&gt;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241720"/>
            <a:ext cx="4267080" cy="27874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Conver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name.trim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Validat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name.required = “1,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名前を入力してください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name.maxlength = “1,60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文字以内で入力してください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,6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Vie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success = example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input = example/error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640" y="190512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Example.class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9120" y="1905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maple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04880" y="514980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371600"/>
            <a:ext cx="7848720" cy="3808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/index.php?action=example&amp;name=k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Componen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と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219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以下の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Componen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と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があっ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Componen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を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から使いたいと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4299120"/>
            <a:ext cx="7772400" cy="21016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class Example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var $us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execut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$name = $this-&gt;user-&gt;getN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return ‘success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etUser(&amp;$user) {  $this-&gt;user =&amp; $user;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8680" y="3962520"/>
            <a:ext cx="47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webapp/modules/example2/Example2.class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470320"/>
            <a:ext cx="7772400" cy="14158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class Pandn_Example2_Us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var $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etName($name) {  $this-&gt;name = $name;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getName() { return $this-&gt;name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0840" y="2133720"/>
            <a:ext cx="534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webapp/components/pandn/example2/user.class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I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698920"/>
            <a:ext cx="3276720" cy="34732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class Example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var $us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execute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$name = $this-&gt;user-&gt; getN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return ‘success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etUser(&amp;$user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user =&amp; $us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841920"/>
            <a:ext cx="4267080" cy="22860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DIContain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ilename = dicon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Ac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user = ref: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Vie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success = example2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698920"/>
            <a:ext cx="4267080" cy="7300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user:pandn.example2.us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name = k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760" y="23623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Example2.class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94440" y="23623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dicon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9120" y="35053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maple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219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コンポーネント設定ファイル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dicon.ini)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でコンポーネントに別名をつけて、それを設定ファイル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(maple.ini)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で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に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100400"/>
            <a:ext cx="7772400" cy="11574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TraceInterceptor:maple.interceptor.traceIntercepto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[member:pandn.example3.model.memb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/.*/ = advice:Trace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;/^f.*/ = advice:TraceInterceptor </a:t>
            </a:r>
            <a:r>
              <a:rPr b="1" lang="ja-JP" sz="1600" spc="-1" strike="noStrike">
                <a:solidFill>
                  <a:srgbClr val="ff0000"/>
                </a:solidFill>
                <a:latin typeface="Verdana"/>
                <a:ea typeface="MS UI Gothic"/>
              </a:rPr>
              <a:t>&lt;= </a:t>
            </a:r>
            <a:r>
              <a:rPr b="1" lang="ja-JP" sz="1600" spc="-1" strike="noStrike">
                <a:solidFill>
                  <a:srgbClr val="ff0000"/>
                </a:solidFill>
                <a:latin typeface="Verdana"/>
                <a:ea typeface="MS UI Gothic"/>
              </a:rPr>
              <a:t>このような指定も可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560" y="2133720"/>
            <a:ext cx="484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webapp/comoponents/pandn/example3/model/Member.class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733920"/>
            <a:ext cx="11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icon.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0810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次のようにすると、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Memb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を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DIContain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に登録しつつ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Mem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の全てのメソッド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正規表現で「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/.*/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」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に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TraceIntercepto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がかか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＝動作ログが出力される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529000"/>
            <a:ext cx="7772400" cy="11430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class Memb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findAl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715000"/>
            <a:ext cx="7772400" cy="60948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findAll(); 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MS UI Gothic"/>
              </a:rPr>
              <a:t>//</a:t>
            </a:r>
            <a:r>
              <a:rPr b="1" lang="ja-JP" sz="1600" spc="-1" strike="noStrike">
                <a:solidFill>
                  <a:srgbClr val="ff0000"/>
                </a:solidFill>
                <a:latin typeface="Verdana"/>
                <a:ea typeface="MS UI Gothic"/>
              </a:rPr>
              <a:t>&lt;= </a:t>
            </a:r>
            <a:r>
              <a:rPr b="1" lang="ja-JP" sz="1600" spc="-1" strike="noStrike">
                <a:solidFill>
                  <a:srgbClr val="ff0000"/>
                </a:solidFill>
                <a:latin typeface="Verdana"/>
                <a:ea typeface="MS UI Gothic"/>
              </a:rPr>
              <a:t>このメソッドが実行される前後でログが出力され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334120"/>
            <a:ext cx="11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PHP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ctiveReco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438280"/>
            <a:ext cx="243864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class Memb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findAll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find($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av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delet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90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次のような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Membe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クラスがあった場合に、メソッドになにも記述しなくても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Intercepto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を適用することによって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CRU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処理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名＝テーブル名、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id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うフィールドが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PRIMARY KEY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MS UI Gothic"/>
              </a:rPr>
              <a:t>という単純なルールに従っていれば、ややこしい設定は必要な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438280"/>
            <a:ext cx="4724280" cy="3886200"/>
          </a:xfrm>
          <a:prstGeom prst="rect">
            <a:avLst/>
          </a:prstGeom>
          <a:solidFill>
            <a:srgbClr val="eaeaea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class MemberLogic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var $me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setMember(&amp;$membe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 =&amp; $memb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tion insertMember($name, $emai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name = $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email = $emai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save();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// INSERT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文発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funciton updateMember($id, $name, $emai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find($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name = $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email = $emai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$this-&gt;member-&gt;save();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// UPDATE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文発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  <a:ea typeface="MS UI Gothic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unit</dc:creator>
  <dc:description/>
  <dc:language>en-US</dc:language>
  <cp:lastModifiedBy>TAKAHASHI Kunihiko</cp:lastModifiedBy>
  <dcterms:modified xsi:type="dcterms:W3CDTF">2005-10-20T15:01:51Z</dcterms:modified>
  <cp:revision>762</cp:revision>
  <dc:subject/>
  <dc:title>PHP4でもDIxAOP ～Mapleの紹介～</dc:title>
</cp:coreProperties>
</file>