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59280" y="154080"/>
            <a:ext cx="575784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2636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4000" y="3940920"/>
            <a:ext cx="822636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59280" y="154080"/>
            <a:ext cx="575784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401436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99600" y="1197000"/>
            <a:ext cx="401436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4000" y="3940920"/>
            <a:ext cx="401436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99600" y="3940920"/>
            <a:ext cx="401436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59280" y="154080"/>
            <a:ext cx="575784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264852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65360" y="1197000"/>
            <a:ext cx="264852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246720" y="1197000"/>
            <a:ext cx="264852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4000" y="3940920"/>
            <a:ext cx="264852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65360" y="3940920"/>
            <a:ext cx="264852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246720" y="3940920"/>
            <a:ext cx="264852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59280" y="154080"/>
            <a:ext cx="575784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4000" y="1197000"/>
            <a:ext cx="8226360" cy="525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59280" y="154080"/>
            <a:ext cx="575784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26360" cy="52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59280" y="154080"/>
            <a:ext cx="575784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4014360" cy="52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9600" y="1197000"/>
            <a:ext cx="4014360" cy="52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59280" y="154080"/>
            <a:ext cx="575784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3059280" y="154080"/>
            <a:ext cx="575784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154080"/>
            <a:ext cx="575784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401436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9600" y="1197000"/>
            <a:ext cx="4014360" cy="52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4000" y="3940920"/>
            <a:ext cx="401436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59280" y="154080"/>
            <a:ext cx="575784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4000" y="1197000"/>
            <a:ext cx="8226360" cy="525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59280" y="154080"/>
            <a:ext cx="575784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4014360" cy="52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9600" y="1197000"/>
            <a:ext cx="401436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99600" y="3940920"/>
            <a:ext cx="401436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154080"/>
            <a:ext cx="575784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401436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9600" y="1197000"/>
            <a:ext cx="401436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4000" y="3940920"/>
            <a:ext cx="822636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59280" y="154080"/>
            <a:ext cx="575784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2636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4000" y="3940920"/>
            <a:ext cx="822636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59280" y="154080"/>
            <a:ext cx="575784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401436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9600" y="1197000"/>
            <a:ext cx="401436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4000" y="3940920"/>
            <a:ext cx="401436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99600" y="3940920"/>
            <a:ext cx="401436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59280" y="154080"/>
            <a:ext cx="575784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264852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65360" y="1197000"/>
            <a:ext cx="264852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46720" y="1197000"/>
            <a:ext cx="264852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4000" y="3940920"/>
            <a:ext cx="264852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65360" y="3940920"/>
            <a:ext cx="264852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46720" y="3940920"/>
            <a:ext cx="264852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59280" y="154080"/>
            <a:ext cx="575784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26360" cy="52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59280" y="154080"/>
            <a:ext cx="575784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4014360" cy="52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9600" y="1197000"/>
            <a:ext cx="4014360" cy="52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154080"/>
            <a:ext cx="575784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3059280" y="154080"/>
            <a:ext cx="575784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59280" y="154080"/>
            <a:ext cx="575784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401436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9600" y="1197000"/>
            <a:ext cx="4014360" cy="52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3940920"/>
            <a:ext cx="401436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59280" y="154080"/>
            <a:ext cx="575784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4014360" cy="52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9600" y="1197000"/>
            <a:ext cx="401436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99600" y="3940920"/>
            <a:ext cx="401436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59280" y="154080"/>
            <a:ext cx="575784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401436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9600" y="1197000"/>
            <a:ext cx="401436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940920"/>
            <a:ext cx="822636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4257720" y="6553080"/>
            <a:ext cx="4851360" cy="258840"/>
            <a:chOff x="4257720" y="6553080"/>
            <a:chExt cx="4851360" cy="258840"/>
          </a:xfrm>
        </p:grpSpPr>
        <p:sp>
          <p:nvSpPr>
            <p:cNvPr id="3" name=""/>
            <p:cNvSpPr/>
            <p:nvPr/>
          </p:nvSpPr>
          <p:spPr>
            <a:xfrm>
              <a:off x="4257720" y="6553080"/>
              <a:ext cx="4851360" cy="258840"/>
            </a:xfrm>
            <a:prstGeom prst="roundRect">
              <a:avLst>
                <a:gd name="adj" fmla="val 61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257720" y="6553080"/>
              <a:ext cx="4851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© Copyright the Seasar Foundation and the others 2005. all rights reserved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4343400" y="6597720"/>
            <a:ext cx="4800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748720" y="6454800"/>
            <a:ext cx="285840" cy="285840"/>
            <a:chOff x="8748720" y="6454800"/>
            <a:chExt cx="285840" cy="285840"/>
          </a:xfrm>
        </p:grpSpPr>
        <p:sp>
          <p:nvSpPr>
            <p:cNvPr id="7" name=""/>
            <p:cNvSpPr/>
            <p:nvPr/>
          </p:nvSpPr>
          <p:spPr>
            <a:xfrm>
              <a:off x="8748720" y="6454800"/>
              <a:ext cx="285840" cy="285840"/>
            </a:xfrm>
            <a:prstGeom prst="ellipse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" name=""/>
            <p:cNvGrpSpPr/>
            <p:nvPr/>
          </p:nvGrpSpPr>
          <p:grpSpPr>
            <a:xfrm>
              <a:off x="8791560" y="6474600"/>
              <a:ext cx="203040" cy="249480"/>
              <a:chOff x="8791560" y="6474600"/>
              <a:chExt cx="203040" cy="249480"/>
            </a:xfrm>
          </p:grpSpPr>
          <p:sp>
            <p:nvSpPr>
              <p:cNvPr id="9" name=""/>
              <p:cNvSpPr/>
              <p:nvPr/>
            </p:nvSpPr>
            <p:spPr>
              <a:xfrm>
                <a:off x="8791560" y="6497640"/>
                <a:ext cx="203040" cy="203040"/>
              </a:xfrm>
              <a:prstGeom prst="roundRect">
                <a:avLst>
                  <a:gd name="adj" fmla="val 77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791560" y="6474600"/>
                <a:ext cx="201600" cy="24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fld id="{3D9DC59E-CB10-49AB-B954-10A25E0F5049}" type="slidenum">
                  <a:rPr b="1" lang="en-GB" sz="900" spc="-1" strike="noStrike">
                    <a:solidFill>
                      <a:srgbClr val="000000"/>
                    </a:solidFill>
                    <a:latin typeface="Tahoma"/>
                    <a:ea typeface="ＭＳ Ｐゴシック"/>
                  </a:rPr>
                  <a:t>&lt;number&gt;</a:t>
                </a:fld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154080"/>
            <a:ext cx="575784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84000" y="1197000"/>
            <a:ext cx="8226360" cy="52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340000" y="2349360"/>
            <a:ext cx="6804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257720" y="6553080"/>
            <a:ext cx="4851360" cy="258840"/>
            <a:chOff x="4257720" y="6553080"/>
            <a:chExt cx="4851360" cy="258840"/>
          </a:xfrm>
        </p:grpSpPr>
        <p:sp>
          <p:nvSpPr>
            <p:cNvPr id="52" name=""/>
            <p:cNvSpPr/>
            <p:nvPr/>
          </p:nvSpPr>
          <p:spPr>
            <a:xfrm>
              <a:off x="4257720" y="6553080"/>
              <a:ext cx="4851360" cy="258840"/>
            </a:xfrm>
            <a:prstGeom prst="roundRect">
              <a:avLst>
                <a:gd name="adj" fmla="val 61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257720" y="6553080"/>
              <a:ext cx="4851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© Copyright the Seasar Foundation and the others 2005. all rights reserved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4343400" y="6597720"/>
            <a:ext cx="4800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8748720" y="6454800"/>
            <a:ext cx="285840" cy="285840"/>
            <a:chOff x="8748720" y="6454800"/>
            <a:chExt cx="285840" cy="285840"/>
          </a:xfrm>
        </p:grpSpPr>
        <p:sp>
          <p:nvSpPr>
            <p:cNvPr id="56" name=""/>
            <p:cNvSpPr/>
            <p:nvPr/>
          </p:nvSpPr>
          <p:spPr>
            <a:xfrm>
              <a:off x="8748720" y="6454800"/>
              <a:ext cx="285840" cy="285840"/>
            </a:xfrm>
            <a:prstGeom prst="ellipse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8791560" y="6474600"/>
              <a:ext cx="203040" cy="249480"/>
              <a:chOff x="8791560" y="6474600"/>
              <a:chExt cx="203040" cy="249480"/>
            </a:xfrm>
          </p:grpSpPr>
          <p:sp>
            <p:nvSpPr>
              <p:cNvPr id="58" name=""/>
              <p:cNvSpPr/>
              <p:nvPr/>
            </p:nvSpPr>
            <p:spPr>
              <a:xfrm>
                <a:off x="8791560" y="6497640"/>
                <a:ext cx="203040" cy="203040"/>
              </a:xfrm>
              <a:prstGeom prst="roundRect">
                <a:avLst>
                  <a:gd name="adj" fmla="val 77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791560" y="6474600"/>
                <a:ext cx="201600" cy="24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fld id="{4C468912-74A4-472D-B6A3-747B0E09A07C}" type="slidenum">
                  <a:rPr b="1" lang="en-GB" sz="900" spc="-1" strike="noStrike">
                    <a:solidFill>
                      <a:srgbClr val="000000"/>
                    </a:solidFill>
                    <a:latin typeface="Tahoma"/>
                    <a:ea typeface="ＭＳ Ｐゴシック"/>
                  </a:rPr>
                  <a:t>&lt;number&gt;</a:t>
                </a:fld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7280" y="2463840"/>
            <a:ext cx="776952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8058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lists.sourceforge.jp/mailman/listinfo/seasar-s2dotnet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2dotnet.oscj.net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2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5.10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佐藤　太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59280" y="154080"/>
            <a:ext cx="575928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P.NE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連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000" y="1087560"/>
            <a:ext cx="822780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のビハインドコード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using vbdemo.S2.NET.Examples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namespace S2.NET.Examples.Impl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ublic class HelloWorld : System.Web.UI.Page 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500" spc="-1" strike="noStrike">
                <a:solidFill>
                  <a:srgbClr val="ff3333"/>
                </a:solidFill>
                <a:latin typeface="Arial"/>
              </a:rPr>
              <a:t>private IMessageHolder holder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otected System.Web.UI.WebControls.Label Label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ivate void Page_Load(object sender, System.EventArgs e) 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abel.Text = this.Holder.GetMessage(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3333"/>
                </a:solidFill>
                <a:latin typeface="Arial"/>
              </a:rPr>
              <a:t>    </a:t>
            </a:r>
            <a:r>
              <a:rPr b="0" lang="en-GB" sz="1500" spc="-1" strike="noStrike">
                <a:solidFill>
                  <a:srgbClr val="ff3333"/>
                </a:solidFill>
                <a:latin typeface="Arial"/>
              </a:rPr>
              <a:t>public IMessageHolder Holder  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3333"/>
                </a:solidFill>
                <a:latin typeface="Arial"/>
              </a:rPr>
              <a:t>      </a:t>
            </a:r>
            <a:r>
              <a:rPr b="0" lang="en-GB" sz="1500" spc="-1" strike="noStrike">
                <a:solidFill>
                  <a:srgbClr val="ff3333"/>
                </a:solidFill>
                <a:latin typeface="Arial"/>
              </a:rPr>
              <a:t>get { return this.holder; 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3333"/>
                </a:solidFill>
                <a:latin typeface="Arial"/>
              </a:rPr>
              <a:t>      </a:t>
            </a:r>
            <a:r>
              <a:rPr b="0" lang="en-GB" sz="1500" spc="-1" strike="noStrike">
                <a:solidFill>
                  <a:srgbClr val="ff3333"/>
                </a:solidFill>
                <a:latin typeface="Arial"/>
              </a:rPr>
              <a:t>set { this.holder = value; 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3333"/>
                </a:solidFill>
                <a:latin typeface="Arial"/>
              </a:rPr>
              <a:t>    </a:t>
            </a:r>
            <a:r>
              <a:rPr b="0" lang="en-GB" sz="1500" spc="-1" strike="noStrike">
                <a:solidFill>
                  <a:srgbClr val="ff3333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9280" y="154080"/>
            <a:ext cx="575928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P.NE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連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2780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最後に、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dic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ファイル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 </a:t>
            </a:r>
            <a:r>
              <a:rPr b="0" lang="en-GB" sz="1600" spc="-1" strike="noStrike">
                <a:solidFill>
                  <a:srgbClr val="6b0094"/>
                </a:solidFill>
                <a:latin typeface="Arial"/>
              </a:rPr>
              <a:t>name="/HelloWorld.aspx"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ff3333"/>
                </a:solidFill>
                <a:latin typeface="Arial"/>
              </a:rPr>
              <a:t>instance="outer"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property name="Holde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700b8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4700b8"/>
                </a:solidFill>
                <a:latin typeface="Arial"/>
              </a:rPr>
              <a:t>&lt;component class="vbdemo.S2.NET.Examples.Impl.MessageHolderImpl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700b8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4700b8"/>
                </a:solidFill>
                <a:latin typeface="Arial"/>
              </a:rPr>
              <a:t>&lt;property name="Message"&gt;"Hello ASP.NET(C#) to VB.NET World !!"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4700b8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4700b8"/>
                </a:solidFill>
                <a:latin typeface="Arial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デモプログラムで見て頂いた</a:t>
            </a:r>
            <a:r>
              <a:rPr b="0" lang="en-GB" sz="32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.dicon</a:t>
            </a:r>
            <a:r>
              <a:rPr b="0" lang="en-GB" sz="32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ァイルとは、少し違う部分があり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9280" y="154080"/>
            <a:ext cx="575928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P.NE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連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2780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通常の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dic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ファイルとの違いは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インスタンスモードが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の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3333"/>
                </a:solidFill>
                <a:latin typeface="Arial"/>
              </a:rPr>
              <a:t>instance="oute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on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タグに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属性が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無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on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タグの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属性が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必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リクエストのパスと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属性が一致している事を前提に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dotne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は動作し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以外のクラスは、この限りではありません。通常通りの設定を行う事が出来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58920" y="325440"/>
            <a:ext cx="57639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の未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47280" y="1104840"/>
            <a:ext cx="823284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n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nit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を見ても分る通り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i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テストフレームワークとして、かなり完成度が高い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uni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ですが、更に使い易くする方策がある筈で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例えば、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bUni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で見られる様なテストデータを外部化する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本家の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にはエクセルファイルでテストデータを投入する機能があり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コンテナをテストにおいてより使い易くする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Remoting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ファミリならではの、異種間プラットフォームを上手く接続出来る様にす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8920" y="325440"/>
            <a:ext cx="57639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の未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360" y="1031760"/>
            <a:ext cx="8232480" cy="55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terpriseLibrary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対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figAB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と各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は密結合しているので、難しい部分も多いけど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sualStudio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プラグイ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ijimuna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ファイルのビジュアルエディタプラグイ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アプリケーションのイベントインジェク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フォームデザイナから、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コンテナに登録されたコンポーネントとイベントを紐付け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Factori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対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がこれからリリースするであろう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ftware Factor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対応ツールを、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コンテナ用に拡張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59280" y="154080"/>
            <a:ext cx="575928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2780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未だ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t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が取れませんが、一度動かしてみて下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全体としては、周辺プロダクトを順次増やしていきたいと考えてい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周辺プロダクトのアイディアだけでも、随時募集中で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勿論、コードを書いて下さるのであれば、とても嬉しいで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こんな風なら、もっと開発が楽になるのになぁ…と言ったコンテナ本体に対する要望も随時受付中で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9280" y="154080"/>
            <a:ext cx="575928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最後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2780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上手く動かなかったら、メーリングリストに投稿して下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出来うる限り、対応しま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lists.sourceforge.jp/mailman/listinfo/seasar-s2dot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ご清聴ありがとうございまし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44520"/>
            <a:ext cx="57639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53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名前：佐藤　太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ブログ：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d.hatena.ne.jp/taichitaichi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ｱﾔｼｲ思いつきがある時と、考えをまとめたい時に書いてま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マルチ・プログラマ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長らく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での開発をやっていまし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最近は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rew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++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を扱っていま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色々なプラットフォームで仕事をするので、プラットフォームを越えた設計思想とも言うべき何かを手探りしていま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8920" y="325440"/>
            <a:ext cx="57639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24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s2dotnet.oscj.ne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s2.net.sandbox.seasar.org/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に移動予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NET Framewor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上で動作する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を実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テスト用モックアスペ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トランザクション管理アスペ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ファイルは同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タグは一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式言語は、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ではなく、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Script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埋め込みリソース、外部リソース共に扱え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P.NE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とも、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ot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部分を除き、連携出来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154080"/>
            <a:ext cx="575928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実際の動作説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000" y="1180800"/>
            <a:ext cx="822780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.NET.Exampl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による実際の動作説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このデモプログラムは、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のリリースアーカイブに含まれていますので、是非ご自宅に帰ったら動かしてみて下さ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現在の最新リリースは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a1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で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s2dotnet.oscj.net/files/documents/54/174/s2-dotnet-1.0.0-beta11.z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154080"/>
            <a:ext cx="575928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P.NE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と如何に連携する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2780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では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P.NE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連携を行う事が出来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但し、幾つかの約束事があり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.confi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に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dotne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用の設定を記述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dic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ファイルの記述ルールが、少し違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その約束事について、説明し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59280" y="154080"/>
            <a:ext cx="575928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P.NE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連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2780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まずは、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.confi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を見て下さい。必要な部分だけ切り出してあり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configuration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configSections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section name="s2.net" type="</a:t>
            </a:r>
            <a:r>
              <a:rPr b="0" lang="en-GB" sz="1300" spc="-1" strike="noStrike">
                <a:solidFill>
                  <a:srgbClr val="0047ff"/>
                </a:solidFill>
                <a:latin typeface="Arial"/>
              </a:rPr>
              <a:t>S2.NET.Framework.Xml.S2SectionHandler,s2dotnet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" /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/configSections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s2.ne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configPath&gt;</a:t>
            </a:r>
            <a:r>
              <a:rPr b="0" lang="en-GB" sz="1300" spc="-1" strike="noStrike">
                <a:solidFill>
                  <a:srgbClr val="ff0000"/>
                </a:solidFill>
                <a:latin typeface="Arial"/>
              </a:rPr>
              <a:t>C:/Development.NET/webdemo/bin/App.dicon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/configPath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assemblys&gt;&lt;assembly&gt;</a:t>
            </a:r>
            <a:r>
              <a:rPr b="0" lang="en-GB" sz="1300" spc="-1" strike="noStrike">
                <a:solidFill>
                  <a:srgbClr val="ff0000"/>
                </a:solidFill>
                <a:latin typeface="Arial"/>
              </a:rPr>
              <a:t>vbdemo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/assembly&gt;&lt;/assemblys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/s2.ne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system.web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httpModules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add name="S2HttpModule" type="</a:t>
            </a:r>
            <a:r>
              <a:rPr b="0" lang="en-GB" sz="1300" spc="-1" strike="noStrike">
                <a:solidFill>
                  <a:srgbClr val="0047ff"/>
                </a:solidFill>
                <a:latin typeface="Arial"/>
              </a:rPr>
              <a:t>S2.NET.Framework.Container.Web.S2HttpModule, s2dotnet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" /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/httpModules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/system.web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/configuration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59280" y="154080"/>
            <a:ext cx="575928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P.NE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連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2780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次に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される側のコードを見て下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少し趣向を変えて、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NE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らしく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B.NE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のクラスを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#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のクラスに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し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amespace S2.NET.Ex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ublic Interface IMessageHol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unction GetMessage() As St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nd Interf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nd Namesp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59280" y="154080"/>
            <a:ext cx="575928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P.NE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連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22780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6240" indent="-3362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定義したインターフェースを実装クラス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espace S2.NET.Examples.Im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blic Class MessageHolderIm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herits MarshalByRef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plements IMessageH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vate msg As St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blic Function GetMessage() As String Implements IMessageHolder.GetMe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urn " *** " + Me.Message + " *** 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blic Property Messag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urn Me.m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 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(ByVal Val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.msg =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 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 Name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59280" y="154080"/>
            <a:ext cx="575928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P.NE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連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2780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更に、コードビハインドを伴う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%@ Page Language="C#" Inherits="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S2.NET.Examples.Impl.HelloWorl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" Src="</a:t>
            </a:r>
            <a:r>
              <a:rPr b="0" lang="en-GB" sz="1800" spc="-1" strike="noStrike">
                <a:solidFill>
                  <a:srgbClr val="ff3333"/>
                </a:solidFill>
                <a:latin typeface="Arial"/>
              </a:rPr>
              <a:t>HelloWorld.aspx.c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" %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html&gt;&lt;head&gt;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ody&gt;&lt;form runat="server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sp:Label id="Label" runat="server"&gt;Label&lt;/asp:Labe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form&gt;&lt;/body&gt;&lt;/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何の変哲も無い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です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羽生　章洋</cp:lastModifiedBy>
  <cp:revision>0</cp:revision>
  <dc:subject/>
  <dc:title>S2.NET</dc:title>
</cp:coreProperties>
</file>