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58400" cy="77724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08EFCA-14E9-4940-BABB-8392FA31C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C08-5E66-46D8-87D6-D44645F815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DD206-2220-461D-B5EA-AB979C5441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4500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536160" y="224460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542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4500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536160" y="4680720"/>
            <a:ext cx="275292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DD0ECF-6ECA-423C-B844-8D018955AC0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92AA-2EE4-40C4-96BD-8C9B81283C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E306F0-A6A8-43F5-9C41-34DB7BE05A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6E3897-5033-4436-8FD5-388EE661F9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C9252D-5879-447F-A3C2-6D0E9F8D6B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54200" y="690120"/>
            <a:ext cx="8550000" cy="6006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901"/>
              </a:spcBef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4BC5E7-92AF-48F4-8F09-21589948D6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A2D2E-FA29-4F3C-8B62-BFED6CA754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35400" y="468072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C31C1D-E578-4EB4-B79B-1101DD88D2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542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35400" y="2244600"/>
            <a:ext cx="417204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54200" y="4680720"/>
            <a:ext cx="8550000" cy="22244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indent="0">
              <a:spcBef>
                <a:spcPts val="901"/>
              </a:spcBef>
              <a:buNone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75248-A3CB-4764-8C6E-1F80EEB260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49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rmAutofit/>
          </a:bodyPr>
          <a:p>
            <a:pPr marL="382680" indent="-38268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1" marL="826920" indent="-31716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2" marL="127332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•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3" marL="1782720" indent="-253800">
              <a:spcBef>
                <a:spcPts val="901"/>
              </a:spcBef>
              <a:buClr>
                <a:srgbClr val="000000"/>
              </a:buClr>
              <a:buFont typeface="Times New Roman"/>
              <a:buChar char="–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4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5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  <a:p>
            <a:pPr lvl="6" marL="2292480" indent="-254160">
              <a:spcBef>
                <a:spcPts val="901"/>
              </a:spcBef>
              <a:buClr>
                <a:srgbClr val="000000"/>
              </a:buClr>
              <a:buFont typeface="Times New Roman"/>
              <a:buChar char="»"/>
              <a:tabLst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542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36920" y="7081560"/>
            <a:ext cx="318456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09000" y="7081560"/>
            <a:ext cx="2095200" cy="51732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t">
            <a:noAutofit/>
          </a:bodyPr>
          <a:lstStyle>
            <a:lvl1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  <a:defRPr b="0" lang="en-US" sz="16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fld id="{B074AA41-BC39-41A9-B8BC-B822CAF6353D}" type="slidenum">
              <a:rPr b="0" lang="en-US" sz="16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754200" y="690120"/>
            <a:ext cx="8550000" cy="1295640"/>
          </a:xfrm>
          <a:prstGeom prst="rect">
            <a:avLst/>
          </a:prstGeom>
          <a:noFill/>
          <a:ln w="0">
            <a:noFill/>
          </a:ln>
        </p:spPr>
        <p:txBody>
          <a:bodyPr lIns="101880" rIns="101880" tIns="51120" bIns="51120" anchor="ctr">
            <a:noAutofit/>
          </a:bodyPr>
          <a:p>
            <a:pPr indent="0" algn="ctr"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49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54200" y="2244600"/>
            <a:ext cx="8550000" cy="4664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1019160"/>
                <a:tab algn="l" pos="2038320"/>
                <a:tab algn="l" pos="3057480"/>
                <a:tab algn="l" pos="4076640"/>
                <a:tab algn="l" pos="5095800"/>
                <a:tab algn="l" pos="6114960"/>
                <a:tab algn="l" pos="7134120"/>
                <a:tab algn="l" pos="8153280"/>
                <a:tab algn="l" pos="9172440"/>
                <a:tab algn="l" pos="10191600"/>
              </a:tabLst>
            </a:pP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5-06-15T12:52:32Z</dcterms:created>
  <dc:creator>Yegor Kozlov</dc:creator>
  <dc:description/>
  <dc:language>en-US</dc:language>
  <cp:lastModifiedBy>Yegor Kozlov</cp:lastModifiedBy>
  <dcterms:modified xsi:type="dcterms:W3CDTF">2005-06-21T07:36:41Z</dcterms:modified>
  <cp:revision>4</cp:revision>
  <dc:subject/>
  <dc:title>PowerPoint Presentation</dc:title>
</cp:coreProperties>
</file>